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464-A2EE-425B-B404-9F6703F5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DFF-691E-40AE-BC41-118E82B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05F-9D1C-4DDF-BD35-0BA12384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987-C998-4813-BA01-341B1947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630-79CC-4301-8A65-22A5341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98C-7908-4E27-8C24-13840D73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E979-D525-412F-9D34-950BE0F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14C5-4B01-495F-9160-2C1EF13B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38B-0AFA-435D-AA0E-F63086D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8FFC-9492-4919-BC2A-F5FCA64B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B86A-A0BF-4AD0-9F31-40440F5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93B-2AAD-4B15-ADD7-274D8628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0C27-FFB6-4012-9D0E-1BC1604B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7B2C-68CE-411A-9975-DF5629E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21D-55E1-4646-B16E-213D8B20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8AF8-91DC-4F2D-9F40-65C6129F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04C5-365D-448E-9D76-96C77BA3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C31D-BFEC-492A-84B7-F7E8EFF3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A91E-863C-41E7-AF55-EAC05A6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9163-86B5-4EDA-AFA5-3A2536F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D160-5E69-4546-87AA-60927CF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8B16-077F-412B-9930-7B7C229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E69-E5AA-4B94-99E2-C18F631C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D757-F277-404F-827F-5D6E9DE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5B44-BAE1-488A-8E49-3CDC1AA4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E02C-18A6-4D22-93D6-B9E808F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DABD-79BF-45EA-A7BF-4CADBF8E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A014-FBBF-42D9-B4A0-E952D98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1D67-16E5-4C73-8095-A9E582CB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2A8A-C661-41B1-A7AF-8BD86EF2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7C67-1691-4693-A411-4BCEA62D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B3C8-EFF7-4009-B22F-99AA004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11FA-72E8-47C5-ADEB-C2BFFE56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EDC-C776-4A77-A8E5-9438D08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416A-4022-48C1-B666-24BF7379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5BA4-C2B0-4D59-8779-89E7A82B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DE9F-4ECE-4DF7-A000-066B1A93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AAF0-D2F5-4EE9-A5F4-98D8A1E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0345-2CE0-4E08-BC91-7FCF20D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7CC3-4C7E-4921-A0D5-4433F6F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AEB4-3B52-469F-A11E-3B099922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D04F-B6DB-47D6-90C8-C08C6192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C3A4-5695-48EF-BD52-5703BDFF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821-3915-417A-8D47-31B11FCE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2B3-2EFD-4055-AFE9-CD172A81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391-2865-4E58-8179-A163E3E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51E-EF6E-4C6B-8C16-D05084C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318-2209-404F-9777-1524486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7D0-8F6C-4D1A-8D40-529CCFF1E0D2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0F90-2E58-4ABB-89CE-BB81208A4B22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A7B0-04A5-4A82-AD1E-6E6AFAF5B3C8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076-3E18-44BB-BBF7-DA799A80EB29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3768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nstantia"/>
              </a:rPr>
              <a:t>Aplicatia Sanako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EARE CONT TU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14240" y="1935000"/>
            <a:ext cx="70725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ME CO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631512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EARE CLA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9580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ME CLA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LEGERE ACTIVITATE – ALEGERE FISIE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ANSMITERE FISI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857240" y="1828800"/>
            <a:ext cx="55724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IMIRE FISIER STU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ESIRE DIN CO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9:40:53Z</dcterms:created>
  <dc:creator>admin2</dc:creator>
  <dc:description/>
  <dc:language>en-US</dc:language>
  <cp:lastModifiedBy>User</cp:lastModifiedBy>
  <dcterms:modified xsi:type="dcterms:W3CDTF">2012-02-11T11:08:51Z</dcterms:modified>
  <cp:revision>4</cp:revision>
  <dc:subject/>
  <dc:title>Diapozitivul 1</dc:title>
</cp:coreProperties>
</file>